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D24-7864-48D8-BB87-682F3995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641-4DEA-452A-9AA8-AF071883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530-7D12-4AA8-B223-F7DDA736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04E-47F0-455A-86DF-38672A90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C29-E515-43F9-A56D-C40D5D9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01C-F98E-4A4C-8ABF-B2245866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D99-6A43-4953-BBBF-3C66A00A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3CA-7014-4A15-ACAF-E42E3A22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699-D1F7-47AE-B134-A17F491D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F72-2793-4D29-BCAD-D52ACA2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E99-029D-480B-9633-56850F67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E69-C527-46E6-8799-15F85533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97B-8E18-4F8C-B07F-0E0B6F86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6553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eneration of species maps out of satellite track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76616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1295280"/>
            <a:ext cx="4495680" cy="3962520"/>
            <a:chOff x="1143000" y="1295280"/>
            <a:chExt cx="4495680" cy="3962520"/>
          </a:xfrm>
        </p:grpSpPr>
        <p:grpSp>
          <p:nvGrpSpPr>
            <p:cNvPr id="44" name=""/>
            <p:cNvGrpSpPr/>
            <p:nvPr/>
          </p:nvGrpSpPr>
          <p:grpSpPr>
            <a:xfrm>
              <a:off x="1143000" y="1295280"/>
              <a:ext cx="4495680" cy="1676520"/>
              <a:chOff x="1143000" y="1295280"/>
              <a:chExt cx="4495680" cy="1676520"/>
            </a:xfrm>
          </p:grpSpPr>
          <p:sp>
            <p:nvSpPr>
              <p:cNvPr id="45" name=""/>
              <p:cNvSpPr/>
              <p:nvPr/>
            </p:nvSpPr>
            <p:spPr>
              <a:xfrm>
                <a:off x="1218960" y="1447920"/>
                <a:ext cx="43430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Generate point shape file out of geographic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Procedur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1. Import table with coordinates (required format: dbase or text fil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decimal degress) into Arc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2. Generate point shape fil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43000" y="1295280"/>
                <a:ext cx="4495680" cy="1676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3238200" y="304812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143000" y="3429000"/>
              <a:ext cx="4495680" cy="1828800"/>
              <a:chOff x="1143000" y="3429000"/>
              <a:chExt cx="4495680" cy="1828800"/>
            </a:xfrm>
          </p:grpSpPr>
          <p:sp>
            <p:nvSpPr>
              <p:cNvPr id="49" name=""/>
              <p:cNvSpPr/>
              <p:nvPr/>
            </p:nvSpPr>
            <p:spPr>
              <a:xfrm>
                <a:off x="1218960" y="3581280"/>
                <a:ext cx="43430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Generate line shape file out of point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Procedur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1. Define chronological order of the track data poi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2. Define attributes for line segments that should be characteris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as arrival or passage are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3. Create a line shape file out of the point data (ArcView scrip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43000" y="3429000"/>
                <a:ext cx="4495680" cy="18288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8080" y="1523880"/>
            <a:ext cx="4572000" cy="4648320"/>
            <a:chOff x="838080" y="1523880"/>
            <a:chExt cx="4572000" cy="4648320"/>
          </a:xfrm>
        </p:grpSpPr>
        <p:grpSp>
          <p:nvGrpSpPr>
            <p:cNvPr id="52" name=""/>
            <p:cNvGrpSpPr/>
            <p:nvPr/>
          </p:nvGrpSpPr>
          <p:grpSpPr>
            <a:xfrm>
              <a:off x="838080" y="1523880"/>
              <a:ext cx="4552920" cy="4647960"/>
              <a:chOff x="838080" y="1523880"/>
              <a:chExt cx="4552920" cy="4647960"/>
            </a:xfrm>
          </p:grpSpPr>
          <p:pic>
            <p:nvPicPr>
              <p:cNvPr id="53" name="Kopie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4552920" cy="31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Kopie10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040" y="4800240"/>
                <a:ext cx="396576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" name=""/>
            <p:cNvSpPr/>
            <p:nvPr/>
          </p:nvSpPr>
          <p:spPr>
            <a:xfrm>
              <a:off x="838080" y="1523880"/>
              <a:ext cx="4572000" cy="4648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66680" y="6858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xample for a species fact sh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0:55:13Z</dcterms:created>
  <dc:creator>pc83</dc:creator>
  <dc:description/>
  <dc:language>en-US</dc:language>
  <cp:lastModifiedBy>pc83</cp:lastModifiedBy>
  <cp:lastPrinted>2002-10-14T13:10:40Z</cp:lastPrinted>
  <dcterms:modified xsi:type="dcterms:W3CDTF">2002-10-15T14:49:12Z</dcterms:modified>
  <cp:revision>84</cp:revision>
  <dc:subject/>
  <dc:title>Generation of ArcExplorer Projects </dc:title>
</cp:coreProperties>
</file>