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46A-1A2C-4878-8249-914AABB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4AC-CEEE-42E7-B357-AC9C2534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EAD-4691-48BD-AC33-45748FD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670-335B-4864-B69A-82538319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33C-12C5-4C08-A012-E519E7F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140-0781-4A49-B588-B46220B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F10-EB29-40FA-8D2C-F65EA43E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714-ABA3-4B5B-BC59-58CAAB1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2A0-DEF0-42BD-A7A6-14A56BF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EFE-5B53-46CC-92D4-2B79A8A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5B4-3045-4159-AC36-4D29DA9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B6D-A590-4BFC-A532-6E96C37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C26-938D-4D21-AF76-5578BE89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553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neration of Migratory Species Fact She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6616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19320"/>
            <a:ext cx="586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enerate JPGs of distribution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Export all distribution maps from ArcView shapefile format into jpg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use a batch export ArcView scri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Generate an image, which contains the legend, the country file, the blu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lor, the scale bar and the map sourc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Generate and run a batch file (Linux shell script)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performs an overlay of the distribution map and the legend imag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generates a scaled down copy of the output image, which is needed for the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6019920" cy="2590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4114800"/>
            <a:ext cx="6019920" cy="2514600"/>
            <a:chOff x="457200" y="4114800"/>
            <a:chExt cx="6019920" cy="2514600"/>
          </a:xfrm>
        </p:grpSpPr>
        <p:sp>
          <p:nvSpPr>
            <p:cNvPr id="46" name=""/>
            <p:cNvSpPr/>
            <p:nvPr/>
          </p:nvSpPr>
          <p:spPr>
            <a:xfrm>
              <a:off x="685800" y="4321080"/>
              <a:ext cx="556272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Generate HTML text f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ced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. Generate two prototype html text files for the species fact sheets (normal vers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int ver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2. Design and carry out GROMS query that provides information for every spe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. Construct a form letter out of GROMS query, using the html proto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4. Split apart the query output, which contains the html code for all species, strin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ogether in a single text file. Each species gets an individual html text file.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splitting procedure is carried out by a C progra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4114800"/>
              <a:ext cx="6019920" cy="2514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373392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38080" y="1523880"/>
            <a:ext cx="4572000" cy="4648320"/>
            <a:chOff x="838080" y="1523880"/>
            <a:chExt cx="4572000" cy="4648320"/>
          </a:xfrm>
        </p:grpSpPr>
        <p:grpSp>
          <p:nvGrpSpPr>
            <p:cNvPr id="50" name=""/>
            <p:cNvGrpSpPr/>
            <p:nvPr/>
          </p:nvGrpSpPr>
          <p:grpSpPr>
            <a:xfrm>
              <a:off x="838080" y="1523880"/>
              <a:ext cx="4552920" cy="4647960"/>
              <a:chOff x="838080" y="1523880"/>
              <a:chExt cx="4552920" cy="4647960"/>
            </a:xfrm>
          </p:grpSpPr>
          <p:pic>
            <p:nvPicPr>
              <p:cNvPr id="51" name="Kopie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4552920" cy="31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Kopie10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040" y="4800240"/>
                <a:ext cx="39657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838080" y="1523880"/>
              <a:ext cx="4572000" cy="4648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066680" y="685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xample for a species fact sh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0:55:13Z</dcterms:created>
  <dc:creator>pc83</dc:creator>
  <dc:description/>
  <dc:language>en-US</dc:language>
  <cp:lastModifiedBy>pc83</cp:lastModifiedBy>
  <cp:lastPrinted>2002-10-14T13:10:40Z</cp:lastPrinted>
  <dcterms:modified xsi:type="dcterms:W3CDTF">2002-10-14T18:03:20Z</dcterms:modified>
  <cp:revision>70</cp:revision>
  <dc:subject/>
  <dc:title>Generation of ArcExplorer Projects </dc:title>
</cp:coreProperties>
</file>